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8B0-DDC7-4497-AFD9-258BECDD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4379-D899-4592-BB8B-BE06EF0F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E27-0190-4F5A-96B2-9272D38C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4143-F60C-47E7-B0BA-7C2CAB41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AD58-6B24-4BCA-99C0-D225B316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3FE-28A4-4B2E-AA9E-2CAA4EE13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1E8-67CE-48D2-83C4-C7A777521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420E-9F5A-4C04-B914-B96B7EB9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924-0D16-4176-A55D-06D0DAE5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D72-8FD8-48D2-945C-EEFF8BE69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362-FC94-4D19-9D15-94E1AB4B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ADB1-6EAE-4B20-AF57-0BFED9E75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222-C6B4-459F-A4E9-7675ACF6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A2C-E472-467A-B58B-E97B1A32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723-3CE1-4E15-A928-FF072AFA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297-A853-4EA5-9583-232D950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433-6ACB-4E68-B01C-0284DE3D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78E7-EDA8-4B1E-8FB3-74DAB84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1B0-46B4-4FF4-8AE3-D3A17DD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8F0-3B5B-4B3B-A237-EFDF25C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7CD-B954-4F50-B40B-E0F49CF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F8F6-385E-49F8-AAB6-0F0C390A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289-21A5-4394-B97A-9F412FB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2B8-9D3F-4499-AD89-B533DED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362A-2663-4319-8953-26B17462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99D8-0188-47BD-8701-BB69128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FF5-FB50-4650-A230-7C9BF333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1FBB-613B-4DD3-BA30-452C07C6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DDC0-CA87-41F5-857A-59901D82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243E-ED2A-44DB-9BF3-F8FC550B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E733-5539-4063-A4E6-9C9587F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1B94-7E09-4959-B6E1-68F8FF5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4878-D0DB-4A9F-AEED-C5BEF49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97B7-5940-4F44-A93E-7E1F14D7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05B-3AB7-46A7-84DE-A2CB8AB8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45B4-5832-4DE5-8FEF-E509A1B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A80E-BD1E-48FF-AEA4-0E9DC3D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9B46-CB45-469A-9E41-B33BA54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067B-A1FB-4DC5-B375-4D4E0B0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9F59-841E-41C4-9F21-9E83C644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FA38-390E-4564-B650-6374742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245D-8265-4D2B-9921-6CDDA1FB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51EF-77C6-445C-88A2-18E0D37E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7BE6-693E-4F05-8BE3-B90FC95E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FA2E-8C7B-4336-A907-D3EB86BC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157-256F-489F-AD50-B2FEF64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950D-D33E-49CA-A646-63B271F3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A892-0293-41ED-A28F-0A4E9BE5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FEEA-A301-4EE1-955A-A81991D6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33D7-5D9F-4C2F-9880-514BA80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F743-06A5-4E55-8216-1648AC7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6BD8-FE41-4052-B9F7-5353DE57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A6EB-4E13-42C3-8239-9DA9968B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219F-915F-4203-B7C8-A49F8D1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449C-AB73-447D-B601-EACEF2D9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9086-3D5D-46DC-A3E8-99D87FC8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FC8-D5F1-43C9-B0C3-3309943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8E76-7B57-4E70-8CE9-2F8D9C2B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F0388-1D1A-4B04-B1C6-0C43A02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22847-2C6E-45A3-AA14-DF624C5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D6A4-25E0-4EC7-9F95-A03884D9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5AA0-6AEA-40F7-90A1-4BA16EF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4B12-B498-4C18-96A8-C6B7FF2A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54CE-3449-4201-B4CB-1F9D17B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24E8-063C-4959-9907-65AF429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11FC0-2C63-41E6-9707-2826C87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EBCD-E076-4A52-AE0A-DEA1416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D41-D92B-43E7-B8E5-3D852E2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B65B-2591-425D-9FA7-6633F1FD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4BDE-3C74-414A-85B2-DE5FF9AB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C44A-B3F0-41F9-9ADD-C70245E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0946-0210-4DCF-9CE2-013C7AB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9C6C-769C-4259-B174-223778C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D9E75-7BB2-4694-833C-713A7EF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79E5-D39D-442B-B05F-70A1335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F008-3355-4C94-B332-DB0FA93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5FC0-27DE-4F87-848B-99EF758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C02D-568A-48AA-A8CB-7F8084E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996-959F-497F-9BE2-F48A74F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F37F-CAB0-4299-85D8-DF0CE226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C22ED-52CF-4B31-959C-BCD0528B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1DF8B-374C-4ED2-92ED-51771A6D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9E9-E114-4A59-B496-5DE61AA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9A3-AB51-405E-8E12-4E2155F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6C9-0F3F-4D1B-A0DB-0F84948381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0D3-6637-4C3A-A2BD-27498C15A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3B5-DA51-45E8-B957-06B6CDF606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5EE-3618-415F-8E46-FBC658AE2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580-F2AF-402F-91F3-5E0A4AF7D1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1F2E-617C-4DE1-95A3-0677D8DD3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FE3-61B9-43C0-9A76-45105DAF94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380-5EDD-4749-BE61-50A999763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A11-5D41-4C7C-9C66-84DD218ACBB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4A6-34CA-42C6-B374-396C4CF50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873-ECAC-4577-8BE8-88368EA1E3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260F-E0EA-4B06-BC86-8B71D0322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Basic Eth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BC4-5EF3-4FD6-9123-A57F9F5B76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A83A-9AEB-4AB3-9997-5656C8859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Ethics of Justice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288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rules laws and seeking consequences for those who do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a of reparation and making up for past mistak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" descr="8948"/>
          <p:cNvPicPr/>
          <p:nvPr/>
        </p:nvPicPr>
        <p:blipFill>
          <a:blip r:embed="rId1"/>
          <a:stretch/>
        </p:blipFill>
        <p:spPr>
          <a:xfrm>
            <a:off x="5452920" y="2006640"/>
            <a:ext cx="3175200" cy="4064040"/>
          </a:xfrm>
          <a:prstGeom prst="rect">
            <a:avLst/>
          </a:prstGeom>
          <a:ln w="0">
            <a:noFill/>
          </a:ln>
        </p:spPr>
      </p:pic>
      <p:sp>
        <p:nvSpPr>
          <p:cNvPr id="304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7E9-A605-4463-89C8-2B4462F88C1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BAB-9D8D-4D51-9DCD-D1AB510F7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Virt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s are analyzed by whether they show that you, as an individual, are trying to be the very best person you can b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good persons will make goo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5" descr="aristotle"/>
          <p:cNvPicPr/>
          <p:nvPr/>
        </p:nvPicPr>
        <p:blipFill>
          <a:blip r:embed="rId1"/>
          <a:stretch/>
        </p:blipFill>
        <p:spPr>
          <a:xfrm>
            <a:off x="6400800" y="2286000"/>
            <a:ext cx="2136600" cy="2590920"/>
          </a:xfrm>
          <a:prstGeom prst="rect">
            <a:avLst/>
          </a:prstGeom>
          <a:ln w="0">
            <a:noFill/>
          </a:ln>
        </p:spPr>
      </p:pic>
      <p:sp>
        <p:nvSpPr>
          <p:cNvPr id="310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BA4-4538-45A4-98C4-EA7A67B457B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E34-CE68-45FE-8A7B-9CB657324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Which of these ethics do you use to make decisions?</a:t>
            </a:r>
            <a:r>
              <a:rPr b="0" lang="en-US" sz="29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173240" y="1981080"/>
          <a:ext cx="7665840" cy="4275360"/>
        </p:xfrm>
        <a:graphic>
          <a:graphicData uri="http://schemas.openxmlformats.org/drawingml/2006/table">
            <a:tbl>
              <a:tblPr/>
              <a:tblGrid>
                <a:gridCol w="4160880"/>
                <a:gridCol w="129528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Con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Egot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Du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spect for 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Human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Jus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Vi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Date Placeholder 3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874-1F33-4AA3-BE6D-C0D92EC37D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F0C-B3C6-4D9A-9D4C-FBBDF784F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Quickwri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type of ethics do you think is the most important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finished, you will read your quickwrite to a part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AC5C-7AAF-47F0-99DE-A9B75266993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22E-CE24-4906-8A17-B4320369A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564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On what basis do we make moral decisions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31680" y="838080"/>
            <a:ext cx="82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Relig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decisions based on religious teachings and tex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Conscien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think and feel is right?  Do you feel good about it or guil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 Egoism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ing only what is right for y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Duty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filling the expectations of a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Respect of Others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lden R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Human Rights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 making based in the belief that all people have inalienable righ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Servi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good for others and your commun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Justi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rules and the la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Virtu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ing to perfect yourself in every w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499-E9B5-4ADA-871E-0D9E3EFFDA8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FD9-1127-4A0D-A834-953BC800F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Relig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good is equivalent to doing whatever the Bible--or the Qur’an or some other sacred text or source of revelation--tells you to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ight” equals “What God tells me to do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029" descr="bible1"/>
          <p:cNvPicPr/>
          <p:nvPr/>
        </p:nvPicPr>
        <p:blipFill>
          <a:blip r:embed="rId1"/>
          <a:srcRect l="0" t="0" r="0" b="17457"/>
          <a:stretch/>
        </p:blipFill>
        <p:spPr>
          <a:xfrm>
            <a:off x="6781680" y="3429000"/>
            <a:ext cx="1733760" cy="863640"/>
          </a:xfrm>
          <a:prstGeom prst="rect">
            <a:avLst/>
          </a:prstGeom>
          <a:ln w="0">
            <a:noFill/>
          </a:ln>
        </p:spPr>
      </p:pic>
      <p:sp>
        <p:nvSpPr>
          <p:cNvPr id="265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48F8-0A06-43FF-B04A-2775707E41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5BE-C67B-487D-A043-FAED0D4E7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Our Own Consci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cience tells us what is right or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feel good about the choice or do you feel guil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on an optimistic view of huma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clear distinctions between what is right and what is wr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9A1-B002-4923-AFB5-672D39A4D7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171-D1AB-4863-B89E-843FC831F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Egotis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 through evaluating your own self-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ces for others is not important or of little impor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decisions based only on what is good for yourself without taking anything else into consid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CC4-C3B1-413C-BDE3-753163A195E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8D8D-D1D0-4440-9045-0A878C0DC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Du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decisions based on the role you play in soci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ty may be determin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ysician’s duty to care for the s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oldier’s duty to fight for his/her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ent’s duty to care for his or her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6" descr="Kant"/>
          <p:cNvPicPr/>
          <p:nvPr/>
        </p:nvPicPr>
        <p:blipFill>
          <a:blip r:embed="rId1"/>
          <a:stretch/>
        </p:blipFill>
        <p:spPr>
          <a:xfrm>
            <a:off x="5403960" y="1981080"/>
            <a:ext cx="3054240" cy="3533760"/>
          </a:xfrm>
          <a:prstGeom prst="rect">
            <a:avLst/>
          </a:prstGeom>
          <a:ln w="0">
            <a:noFill/>
          </a:ln>
        </p:spPr>
      </p:pic>
      <p:sp>
        <p:nvSpPr>
          <p:cNvPr id="281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5A7-5780-45A4-BF50-D793934C54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C64-47B1-46A4-9982-8E91CBDE1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Respect of the Individu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interactions should be governed by rules of resp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y respect is shown can vary from culture to cul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your decision earn you respect?  Is your decision respecting 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lden Rule”: Do unto others as you would have them do unto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ADE-F7C5-4486-861F-4D49EFF3513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DF0-1CEF-442B-8797-43E3AD682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Ethics of Human Right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288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are made by weighing whether the decision affects yours or anyone else’s inalienable righ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minimal conditions of human dec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men [women] are created equal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5" descr="Image of the Bill of Rights"/>
          <p:cNvPicPr/>
          <p:nvPr/>
        </p:nvPicPr>
        <p:blipFill>
          <a:blip r:embed="rId1"/>
          <a:stretch/>
        </p:blipFill>
        <p:spPr>
          <a:xfrm>
            <a:off x="5659560" y="25146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292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BDF8-089F-4D13-AFEE-B18310DFD28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843A-C29C-452A-BB7C-55E976640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Servic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0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are made by evaluation of whether it will help someone or the community have a better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ke the world a better plac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s a high degree of self-sacrifice—we must consider the consequences for every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" descr="MILL"/>
          <p:cNvPicPr/>
          <p:nvPr/>
        </p:nvPicPr>
        <p:blipFill>
          <a:blip r:embed="rId1"/>
          <a:stretch/>
        </p:blipFill>
        <p:spPr>
          <a:xfrm>
            <a:off x="1371600" y="1447920"/>
            <a:ext cx="1533600" cy="1904760"/>
          </a:xfrm>
          <a:prstGeom prst="rect">
            <a:avLst/>
          </a:prstGeom>
          <a:ln w="0">
            <a:noFill/>
          </a:ln>
        </p:spPr>
      </p:pic>
      <p:sp>
        <p:nvSpPr>
          <p:cNvPr id="298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750-495B-4769-857B-2C0795CFF1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1A0-C95D-42FE-9D38-634470107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00:19:29Z</dcterms:created>
  <dc:creator>Lawrence M. Hinman</dc:creator>
  <dc:description/>
  <dc:language>en-US</dc:language>
  <cp:lastModifiedBy>Michelle Clark-Cadwell</cp:lastModifiedBy>
  <cp:lastPrinted>2015-08-04T14:18:02Z</cp:lastPrinted>
  <dcterms:modified xsi:type="dcterms:W3CDTF">2015-08-04T14:23:22Z</dcterms:modified>
  <cp:revision>47</cp:revision>
  <dc:subject>Basic moral orientations</dc:subject>
  <dc:title>Basic Moral Orientations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ethics.acusd.edu/theory/</vt:lpwstr>
  </property>
  <property fmtid="{D5CDD505-2E9C-101B-9397-08002B2CF9AE}" pid="9" name="LinkColor">
    <vt:r8>16711782</vt:r8>
  </property>
  <property fmtid="{D5CDD505-2E9C-101B-9397-08002B2CF9AE}" pid="10" name="MailAddress">
    <vt:lpwstr>hinman@acusd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wwwroot2\theory\Intro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